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7B4-C401-47A5-A1F9-DE67D5DE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6BD-5B6A-4396-ACC5-8A4EF67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3FC-E268-418B-A7C0-E1B87BD9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086-65D6-4E1C-BB6A-5B1654BF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384-C3DE-4BEB-9C99-6B045C3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691-4601-41D7-96A3-1AD2689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A13-CE3E-48F0-B22D-D0C78A1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D51-2560-4EB7-907E-A5A8B11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8F9-3C99-4F83-AA4C-350C0CE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80C-B3A0-4D50-A715-EC84C3BD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D76-ABBF-491F-94EF-1BFFE14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66-7D36-437E-A286-2DE81BC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1F3F-813A-4E14-A176-80A76DF2E1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14400" y="-212760"/>
            <a:ext cx="731520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ease find your seat (name on index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8" descr=""/>
          <p:cNvPicPr/>
          <p:nvPr/>
        </p:nvPicPr>
        <p:blipFill>
          <a:blip r:embed="rId1"/>
          <a:stretch/>
        </p:blipFill>
        <p:spPr>
          <a:xfrm>
            <a:off x="3144960" y="1517760"/>
            <a:ext cx="2732040" cy="927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304920" y="248292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Section 1.1 n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write your name in your textb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1337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541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(half marathons, 10K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lso teach AP Stat &amp;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447920" y="4006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arning through experiments/studies/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3"/>
          <p:cNvSpPr/>
          <p:nvPr/>
        </p:nvSpPr>
        <p:spPr>
          <a:xfrm>
            <a:off x="1285920" y="801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295280" y="1487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Rectangle 15" descr=""/>
          <p:cNvPicPr/>
          <p:nvPr/>
        </p:nvPicPr>
        <p:blipFill>
          <a:blip r:embed="rId1"/>
          <a:stretch/>
        </p:blipFill>
        <p:spPr>
          <a:xfrm>
            <a:off x="2730600" y="-36360"/>
            <a:ext cx="2908080" cy="920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1295280" y="2173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Rectangle 17" descr=""/>
          <p:cNvPicPr/>
          <p:nvPr/>
        </p:nvPicPr>
        <p:blipFill>
          <a:blip r:embed="rId2"/>
          <a:stretch/>
        </p:blipFill>
        <p:spPr>
          <a:xfrm>
            <a:off x="2262240" y="2846520"/>
            <a:ext cx="3846600" cy="920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1285920" y="377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ersonal Responsibility &amp; Resp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1295280" y="4459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 for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1295280" y="5145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 poli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2743200" y="649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43200" y="13352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 &amp;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6" descr=""/>
          <p:cNvPicPr/>
          <p:nvPr/>
        </p:nvPicPr>
        <p:blipFill>
          <a:blip r:embed="rId1"/>
          <a:stretch/>
        </p:blipFill>
        <p:spPr>
          <a:xfrm>
            <a:off x="2438280" y="-85680"/>
            <a:ext cx="3492720" cy="927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8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768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1600200" y="2762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: HW &amp; C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600200" y="33717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: HW = 5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va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600200" y="4498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: HW = comple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correc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1600200" y="5734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: HW =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½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6" descr=""/>
          <p:cNvPicPr/>
          <p:nvPr/>
        </p:nvPicPr>
        <p:blipFill>
          <a:blip r:embed="rId1"/>
          <a:stretch/>
        </p:blipFill>
        <p:spPr>
          <a:xfrm>
            <a:off x="384120" y="0"/>
            <a:ext cx="8478720" cy="920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1905120" y="15429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- allowed on all, cleared before &amp; af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14" descr=""/>
          <p:cNvPicPr/>
          <p:nvPr/>
        </p:nvPicPr>
        <p:blipFill>
          <a:blip r:embed="rId2"/>
          <a:stretch/>
        </p:blipFill>
        <p:spPr>
          <a:xfrm>
            <a:off x="2895480" y="4376880"/>
            <a:ext cx="2494080" cy="920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1905120" y="529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 (3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905120" y="598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 &amp;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1905120" y="2782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&amp; 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905120" y="346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-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, all M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1054080" y="146160"/>
            <a:ext cx="7126200" cy="768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38080" y="1639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re Assessments (4)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% each, done in class, 12% 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Rectangle 8" descr=""/>
          <p:cNvPicPr/>
          <p:nvPr/>
        </p:nvPicPr>
        <p:blipFill>
          <a:blip r:embed="rId2"/>
          <a:stretch/>
        </p:blipFill>
        <p:spPr>
          <a:xfrm>
            <a:off x="2822400" y="36576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2514600" y="5181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certain day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W = 15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2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zes/Tests/Projects = 6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914400" y="2971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8" descr=""/>
          <p:cNvPicPr/>
          <p:nvPr/>
        </p:nvPicPr>
        <p:blipFill>
          <a:blip r:embed="rId2"/>
          <a:stretch/>
        </p:blipFill>
        <p:spPr>
          <a:xfrm>
            <a:off x="1828800" y="358452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182880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828800" y="4952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18288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 Core Assessments = 1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MCNELIS, LAUREN</cp:lastModifiedBy>
  <dcterms:modified xsi:type="dcterms:W3CDTF">2012-09-02T18:04:13Z</dcterms:modified>
  <cp:revision>46</cp:revision>
  <dc:subject/>
  <dc:title>Slide 1</dc:title>
</cp:coreProperties>
</file>